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2.wmf" ContentType="image/x-wmf"/>
  <Override PartName="/ppt/media/image6.jpeg" ContentType="image/jpeg"/>
  <Override PartName="/ppt/media/image21.gif" ContentType="image/gif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20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A6D0-C6BD-4BFE-BA20-DB9692ED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C44C-94E4-42CA-8A19-62315792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54E-25B0-42EF-9933-D133E81A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68FD-8A3C-426D-8658-65B87D82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55E4-0DE3-423E-836B-A2B0028B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35A9-8D4F-4E1A-A12C-94A30864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86C0-310E-48E9-9A75-F34120A8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0CD4-B0DB-4C9C-844B-CEE2238B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0CFD-0C38-4C76-9033-B488038E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207C-8966-4719-B628-6C9ED892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720F-EB22-4232-9233-34F20DA8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78F3-7CB2-4BF1-95A0-FBCBA656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04AB-66AC-4E19-826E-6BA92C4040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ics.alife.com.cn/20060301/2006031408542556842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09680" y="38088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     </a:t>
            </a:r>
            <a:r>
              <a:rPr b="1" lang="zh-CN" sz="6600" spc="-1" strike="noStrike">
                <a:solidFill>
                  <a:srgbClr val="0033cc"/>
                </a:solidFill>
                <a:latin typeface="Times New Roman"/>
                <a:ea typeface="黑体"/>
              </a:rPr>
              <a:t>主题班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3520" y="2057400"/>
            <a:ext cx="8153280" cy="22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黑体"/>
              </a:rPr>
              <a:t>爱护我们的家园</a:t>
            </a:r>
            <a:r>
              <a:rPr b="1" lang="en-US" sz="8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黑体"/>
              </a:rPr>
              <a:t>,</a:t>
            </a:r>
            <a:r>
              <a:rPr b="1" lang="zh-CN" sz="80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黑体"/>
              </a:rPr>
              <a:t>创建美丽的花园</a:t>
            </a:r>
            <a:endParaRPr b="1" lang="en-US" sz="8000" spc="1" strike="noStrike">
              <a:ln w="936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1212840"/>
            <a:ext cx="734364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ShockwaveFlash1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010280" y="64692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8153280" y="6324480"/>
            <a:ext cx="738360" cy="533520"/>
          </a:xfrm>
          <a:custGeom>
            <a:avLst/>
            <a:gdLst>
              <a:gd name="textAreaLeft" fmla="*/ 34560 w 738360"/>
              <a:gd name="textAreaRight" fmla="*/ 703800 w 7383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9888" h="21600">
                <a:moveTo>
                  <a:pt x="0" y="0"/>
                </a:moveTo>
                <a:lnTo>
                  <a:pt x="29888" y="0"/>
                </a:lnTo>
                <a:lnTo>
                  <a:pt x="29888" y="21600"/>
                </a:lnTo>
                <a:lnTo>
                  <a:pt x="0" y="21600"/>
                </a:lnTo>
                <a:close/>
              </a:path>
              <a:path fill="lightenLess" w="29888" h="21600">
                <a:moveTo>
                  <a:pt x="0" y="0"/>
                </a:moveTo>
                <a:lnTo>
                  <a:pt x="29888" y="0"/>
                </a:lnTo>
                <a:lnTo>
                  <a:pt x="28488" y="1400"/>
                </a:lnTo>
                <a:lnTo>
                  <a:pt x="1400" y="1400"/>
                </a:lnTo>
                <a:close/>
              </a:path>
              <a:path fill="darken" w="29888" h="21600">
                <a:moveTo>
                  <a:pt x="29888" y="0"/>
                </a:moveTo>
                <a:lnTo>
                  <a:pt x="29888" y="21600"/>
                </a:lnTo>
                <a:lnTo>
                  <a:pt x="28488" y="20200"/>
                </a:lnTo>
                <a:lnTo>
                  <a:pt x="28488" y="1400"/>
                </a:lnTo>
                <a:close/>
              </a:path>
              <a:path fill="darkenLess" w="29888" h="21600">
                <a:moveTo>
                  <a:pt x="298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88" y="20200"/>
                </a:lnTo>
                <a:close/>
              </a:path>
              <a:path fill="lighten" w="298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888" h="21600">
                <a:moveTo>
                  <a:pt x="7937" y="3794"/>
                </a:moveTo>
                <a:lnTo>
                  <a:pt x="21950" y="10800"/>
                </a:lnTo>
                <a:lnTo>
                  <a:pt x="793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838080"/>
            <a:ext cx="86868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66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黑体"/>
              </a:rPr>
              <a:t>环保知识竞答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solidFill>
                <a:srgbClr val="3366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304920"/>
            <a:ext cx="8763120" cy="61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中国植树节是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(   )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日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日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日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全国各地的爱鸟周是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(   )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至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初的某一周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至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初的某一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至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初的某一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32360" y="2602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48360" y="299736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90720" y="533520"/>
            <a:ext cx="708660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国际禁毒日是（  ）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日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日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世界无烟日是（  ）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3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日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3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日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3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日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3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r>
              <a:rPr b="0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54936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130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762120" y="0"/>
            <a:ext cx="10820520" cy="7620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-252360" y="66600"/>
            <a:ext cx="10058400" cy="68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、世界环境日是（    ） </a:t>
            </a:r>
            <a:br>
              <a:rPr sz="4400"/>
            </a:b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6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日  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B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8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9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C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日 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D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6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日</a:t>
            </a:r>
            <a:br>
              <a:rPr sz="4400"/>
            </a:b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6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、世界水资源日是（    ）</a:t>
            </a:r>
            <a:br>
              <a:rPr sz="4400"/>
            </a:b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22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日 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B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25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日 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C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、世界森林日是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日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日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日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2360" y="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64000" y="242100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33800" y="40766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11844360" cy="69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国际臭氧层保护日是（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日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日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日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我国确立（  ）为一项基本国策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民族团结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扶贫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环境保护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全国统一的环境问题举报免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热线电话是（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2315   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48   C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2369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32000" y="508464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94360" y="-10944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1640" y="25560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第一题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　　　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1973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起，每年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　　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为世界环境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　　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4120" y="3284640"/>
            <a:ext cx="510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答案：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1973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年起，每年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月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日为世界环境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第二题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　　　任何单位和个人发现受伤、病弱、饥饿、受困、迷途的国家和地方重点保护野生动物时，应当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Ａ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自己带回家中收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Ｂ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置之不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Ｃ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及时报告当地野生动物行政主管部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72720" y="4849920"/>
            <a:ext cx="4629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答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Ｃ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及时报告当地野生动物行政主管部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246440" y="5732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球之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第三题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989840" cy="30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　　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___________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会给人类生存带来一系列危害，例如导致水土流失、导致大气条件恶化、导致物种绝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滥砍乱伐森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植树造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C. 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垃圾清洁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8200" y="5124600"/>
            <a:ext cx="491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答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Ａ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滥砍乱伐森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第四题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000" y="1989000"/>
            <a:ext cx="8999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　　　藏羚羊是国家一级保护动物，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特有的动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Ａ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青藏高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Ｂ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新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Ｃ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青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57840" y="4724280"/>
            <a:ext cx="170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答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Ａ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青藏高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第五题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为保护蓝天，我们在出门时，应该选择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Ａ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尽量选择乘坐舒适的交通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Ｂ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使用私人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Ｃ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尽量选择乘坐公共交通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1480" y="4619520"/>
            <a:ext cx="365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答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Ｃ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尽量选择乘坐公共交通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第六题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减少“白色污染”我们应该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。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Ａ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自觉地不用、少用难降解的塑料包装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Ｂ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乱扔塑料垃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Ｃ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尽量使用塑料制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4680" y="4979880"/>
            <a:ext cx="101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答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Ａ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自觉地不用、少用难降解的塑料包装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第八题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选无磷洗衣粉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Ａ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保护衣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Ｂ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防止污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Ｃ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保护双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50400" y="5051520"/>
            <a:ext cx="190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答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Ｂ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防止污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第九题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中国野生动物保护协会的会徽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Ａ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丹顶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Ｂ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大熊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Ｃ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骆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84320" y="4835520"/>
            <a:ext cx="146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答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Ｂ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大熊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第十题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3360" y="1980720"/>
            <a:ext cx="854064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以下说法哪种是错误的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华文细黑"/>
                <a:ea typeface="华文细黑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三个废餐盒可以做一把学生用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废易拉罐溶解后可以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100%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的无数次循环再造成新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废玻璃无法回收利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88240" y="5268960"/>
            <a:ext cx="294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答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废玻璃无法回收利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53880" y="301680"/>
            <a:ext cx="319824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列举题（不得重复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列举三种破坏环境、不环保的行为或现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2924280"/>
            <a:ext cx="77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列举我们能够做到的三种环保举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371600"/>
            <a:ext cx="72388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黑体"/>
              </a:rPr>
              <a:t>设计环保标语</a:t>
            </a:r>
            <a:endParaRPr b="1" lang="en-US" sz="7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295280" y="4297320"/>
            <a:ext cx="227484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我们的呼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垃圾是放错位置的资源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环保是我们每一个人的责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今天保护环境，明天收获美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人类对环境处处爱护，环境与人类和谐共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重视环境保护，构建和谐空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手下留情，足下留春；爱护环境，人人有责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ShockwaveFlash1"/>
          <p:cNvGraphicFramePr/>
          <p:nvPr/>
        </p:nvGraphicFramePr>
        <p:xfrm>
          <a:off x="0" y="0"/>
          <a:ext cx="914400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400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001000" y="6400800"/>
            <a:ext cx="814320" cy="457200"/>
          </a:xfrm>
          <a:custGeom>
            <a:avLst/>
            <a:gdLst>
              <a:gd name="textAreaLeft" fmla="*/ 29520 w 814320"/>
              <a:gd name="textAreaRight" fmla="*/ 784800 w 814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8459" h="21600">
                <a:moveTo>
                  <a:pt x="0" y="0"/>
                </a:moveTo>
                <a:lnTo>
                  <a:pt x="38459" y="0"/>
                </a:lnTo>
                <a:lnTo>
                  <a:pt x="38459" y="21600"/>
                </a:lnTo>
                <a:lnTo>
                  <a:pt x="0" y="21600"/>
                </a:lnTo>
                <a:close/>
              </a:path>
              <a:path fill="lightenLess" w="38459" h="21600">
                <a:moveTo>
                  <a:pt x="0" y="0"/>
                </a:moveTo>
                <a:lnTo>
                  <a:pt x="38459" y="0"/>
                </a:lnTo>
                <a:lnTo>
                  <a:pt x="37059" y="1400"/>
                </a:lnTo>
                <a:lnTo>
                  <a:pt x="1400" y="1400"/>
                </a:lnTo>
                <a:close/>
              </a:path>
              <a:path fill="darken" w="38459" h="21600">
                <a:moveTo>
                  <a:pt x="38459" y="0"/>
                </a:moveTo>
                <a:lnTo>
                  <a:pt x="38459" y="21600"/>
                </a:lnTo>
                <a:lnTo>
                  <a:pt x="37059" y="20200"/>
                </a:lnTo>
                <a:lnTo>
                  <a:pt x="37059" y="1400"/>
                </a:lnTo>
                <a:close/>
              </a:path>
              <a:path fill="darkenLess" w="38459" h="21600">
                <a:moveTo>
                  <a:pt x="38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9" y="20200"/>
                </a:lnTo>
                <a:close/>
              </a:path>
              <a:path fill="lighten" w="38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9" h="21600">
                <a:moveTo>
                  <a:pt x="12223" y="3794"/>
                </a:moveTo>
                <a:lnTo>
                  <a:pt x="26236" y="10800"/>
                </a:lnTo>
                <a:lnTo>
                  <a:pt x="1222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44928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c1.gif (4735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380880" y="2133720"/>
            <a:ext cx="8382240" cy="28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我们齐心协力，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共建美丽东莞！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87480"/>
            <a:ext cx="9144000" cy="66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令人痛心的污染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按此在新窗口浏览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按此在新窗口浏览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5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7T03:49:5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04:40Z</dcterms:modified>
  <cp:revision>59</cp:revision>
  <dc:subject>主题班会课件(分28大类): http://shop62905894.taobao.com</dc:subject>
  <dc:title>主题班会课件(分28大类): http://shop62905894.taobao.com</dc:title>
</cp:coreProperties>
</file>